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88"/>
              </a:spcBef>
              <a:buClr>
                <a:srgbClr val="000000"/>
              </a:buClr>
              <a:buFont typeface="Arial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88"/>
              </a:spcBef>
              <a:buClr>
                <a:srgbClr val="000000"/>
              </a:buClr>
              <a:buFont typeface="Arial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439000" y="5334120"/>
            <a:ext cx="454860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www.textpresso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85800" y="3048120"/>
            <a:ext cx="777096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 Information Retrieval and Extraction System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or C. elegans Lit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57360" y="853920"/>
            <a:ext cx="5986440" cy="16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53776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53740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4280" y="1021320"/>
            <a:ext cx="29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ological Enti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3680" y="3184200"/>
            <a:ext cx="309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s, Facts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cumstance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e Two Entitie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59320" y="5804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man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9040" y="380880"/>
            <a:ext cx="1363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ge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i ac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6960" y="380880"/>
            <a:ext cx="311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 fe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fe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ugs and small molec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olecular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 and cell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ellular 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9040" y="3124080"/>
            <a:ext cx="1287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o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po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hw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7320" y="3124080"/>
            <a:ext cx="2416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tial/time re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ol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acter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iological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07360" y="5702400"/>
            <a:ext cx="1188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termi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j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xili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j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160" y="5708520"/>
            <a:ext cx="1197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g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no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nct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0480" y="1486080"/>
            <a:ext cx="22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lugin Dictionari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9800" y="4343400"/>
            <a:ext cx="18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mon Sens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3440" y="1905120"/>
            <a:ext cx="15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peci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0440" y="466236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Partially Gene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0720" y="617220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Gene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320" y="1981080"/>
            <a:ext cx="8915400" cy="762120"/>
          </a:xfrm>
          <a:prstGeom prst="roundRect">
            <a:avLst>
              <a:gd name="adj" fmla="val 208"/>
            </a:avLst>
          </a:prstGeom>
          <a:solidFill>
            <a:srgbClr val="c0c0c0">
              <a:alpha val="3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3880" y="2209680"/>
            <a:ext cx="868608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 activation of let-7 RNA expression downregulates LIN-4 to relieve inhibition of lin-2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819520" y="914400"/>
            <a:ext cx="1143000" cy="1369800"/>
            <a:chOff x="2819520" y="914400"/>
            <a:chExt cx="1143000" cy="1369800"/>
          </a:xfrm>
        </p:grpSpPr>
        <p:grpSp>
          <p:nvGrpSpPr>
            <p:cNvPr id="101" name=""/>
            <p:cNvGrpSpPr/>
            <p:nvPr/>
          </p:nvGrpSpPr>
          <p:grpSpPr>
            <a:xfrm>
              <a:off x="2819520" y="914400"/>
              <a:ext cx="1143000" cy="685800"/>
              <a:chOff x="2819520" y="914400"/>
              <a:chExt cx="1143000" cy="685800"/>
            </a:xfrm>
          </p:grpSpPr>
          <p:sp>
            <p:nvSpPr>
              <p:cNvPr id="102" name=""/>
              <p:cNvSpPr/>
              <p:nvPr/>
            </p:nvSpPr>
            <p:spPr>
              <a:xfrm>
                <a:off x="2819520" y="914400"/>
                <a:ext cx="1143000" cy="685800"/>
              </a:xfrm>
              <a:prstGeom prst="roundRect">
                <a:avLst>
                  <a:gd name="adj" fmla="val 231"/>
                </a:avLst>
              </a:prstGeom>
              <a:solidFill>
                <a:srgbClr val="8ef83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877480" y="1001880"/>
                <a:ext cx="1032480" cy="51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iologic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ce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2895840" y="1600200"/>
              <a:ext cx="912960" cy="684000"/>
              <a:chOff x="2895840" y="1600200"/>
              <a:chExt cx="912960" cy="684000"/>
            </a:xfrm>
          </p:grpSpPr>
          <p:sp>
            <p:nvSpPr>
              <p:cNvPr id="105" name=""/>
              <p:cNvSpPr/>
              <p:nvPr/>
            </p:nvSpPr>
            <p:spPr>
              <a:xfrm>
                <a:off x="3352320" y="1600200"/>
                <a:ext cx="1080" cy="608400"/>
              </a:xfrm>
              <a:prstGeom prst="line">
                <a:avLst/>
              </a:prstGeom>
              <a:ln w="76320">
                <a:solidFill>
                  <a:srgbClr val="8ef8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895840" y="2132280"/>
                <a:ext cx="912960" cy="151920"/>
              </a:xfrm>
              <a:custGeom>
                <a:avLst/>
                <a:gdLst/>
                <a:ahLst/>
                <a:rect l="l" t="t" r="r" b="b"/>
                <a:pathLst>
                  <a:path w="2541" h="424">
                    <a:moveTo>
                      <a:pt x="2540" y="423"/>
                    </a:moveTo>
                    <a:cubicBezTo>
                      <a:pt x="2540" y="317"/>
                      <a:pt x="2435" y="211"/>
                      <a:pt x="2329" y="211"/>
                    </a:cubicBezTo>
                    <a:lnTo>
                      <a:pt x="1482" y="211"/>
                    </a:lnTo>
                    <a:cubicBezTo>
                      <a:pt x="1376" y="211"/>
                      <a:pt x="1270" y="105"/>
                      <a:pt x="1270" y="0"/>
                    </a:cubicBezTo>
                    <a:cubicBezTo>
                      <a:pt x="1270" y="105"/>
                      <a:pt x="1165" y="211"/>
                      <a:pt x="1059" y="211"/>
                    </a:cubicBezTo>
                    <a:lnTo>
                      <a:pt x="212" y="211"/>
                    </a:lnTo>
                    <a:cubicBezTo>
                      <a:pt x="106" y="211"/>
                      <a:pt x="0" y="317"/>
                      <a:pt x="0" y="423"/>
                    </a:cubicBezTo>
                  </a:path>
                </a:pathLst>
              </a:custGeom>
              <a:noFill/>
              <a:ln w="76320">
                <a:solidFill>
                  <a:srgbClr val="8ef83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" name=""/>
          <p:cNvGrpSpPr/>
          <p:nvPr/>
        </p:nvGrpSpPr>
        <p:grpSpPr>
          <a:xfrm>
            <a:off x="3962520" y="152280"/>
            <a:ext cx="1369800" cy="2131560"/>
            <a:chOff x="3962520" y="152280"/>
            <a:chExt cx="1369800" cy="2131560"/>
          </a:xfrm>
        </p:grpSpPr>
        <p:grpSp>
          <p:nvGrpSpPr>
            <p:cNvPr id="108" name=""/>
            <p:cNvGrpSpPr/>
            <p:nvPr/>
          </p:nvGrpSpPr>
          <p:grpSpPr>
            <a:xfrm>
              <a:off x="4112280" y="152280"/>
              <a:ext cx="1099800" cy="609480"/>
              <a:chOff x="4112280" y="152280"/>
              <a:chExt cx="1099800" cy="609480"/>
            </a:xfrm>
          </p:grpSpPr>
          <p:sp>
            <p:nvSpPr>
              <p:cNvPr id="109" name=""/>
              <p:cNvSpPr/>
              <p:nvPr/>
            </p:nvSpPr>
            <p:spPr>
              <a:xfrm>
                <a:off x="4130280" y="152280"/>
                <a:ext cx="1066320" cy="609480"/>
              </a:xfrm>
              <a:prstGeom prst="roundRect">
                <a:avLst>
                  <a:gd name="adj" fmla="val 259"/>
                </a:avLst>
              </a:prstGeom>
              <a:solidFill>
                <a:srgbClr val="58bef6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112280" y="315720"/>
                <a:ext cx="1099800" cy="3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gul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962520" y="761760"/>
              <a:ext cx="1369800" cy="1522080"/>
              <a:chOff x="3962520" y="761760"/>
              <a:chExt cx="1369800" cy="1522080"/>
            </a:xfrm>
          </p:grpSpPr>
          <p:sp>
            <p:nvSpPr>
              <p:cNvPr id="112" name=""/>
              <p:cNvSpPr/>
              <p:nvPr/>
            </p:nvSpPr>
            <p:spPr>
              <a:xfrm>
                <a:off x="4647240" y="761760"/>
                <a:ext cx="1440" cy="1293840"/>
              </a:xfrm>
              <a:prstGeom prst="line">
                <a:avLst/>
              </a:prstGeom>
              <a:ln w="76320">
                <a:solidFill>
                  <a:srgbClr val="58be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62520" y="2055600"/>
                <a:ext cx="1369800" cy="228240"/>
              </a:xfrm>
              <a:custGeom>
                <a:avLst/>
                <a:gdLst/>
                <a:ahLst/>
                <a:rect l="l" t="t" r="r" b="b"/>
                <a:pathLst>
                  <a:path w="3811" h="636">
                    <a:moveTo>
                      <a:pt x="3810" y="635"/>
                    </a:moveTo>
                    <a:cubicBezTo>
                      <a:pt x="3810" y="476"/>
                      <a:pt x="3652" y="317"/>
                      <a:pt x="3493" y="317"/>
                    </a:cubicBezTo>
                    <a:lnTo>
                      <a:pt x="2223" y="317"/>
                    </a:lnTo>
                    <a:cubicBezTo>
                      <a:pt x="2064" y="317"/>
                      <a:pt x="1905" y="158"/>
                      <a:pt x="1905" y="0"/>
                    </a:cubicBezTo>
                    <a:cubicBezTo>
                      <a:pt x="1905" y="158"/>
                      <a:pt x="1747" y="317"/>
                      <a:pt x="1588" y="317"/>
                    </a:cubicBezTo>
                    <a:lnTo>
                      <a:pt x="318" y="317"/>
                    </a:lnTo>
                    <a:cubicBezTo>
                      <a:pt x="159" y="317"/>
                      <a:pt x="0" y="476"/>
                      <a:pt x="0" y="635"/>
                    </a:cubicBezTo>
                  </a:path>
                </a:pathLst>
              </a:custGeom>
              <a:noFill/>
              <a:ln w="76320">
                <a:solidFill>
                  <a:srgbClr val="58bef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" name=""/>
          <p:cNvGrpSpPr/>
          <p:nvPr/>
        </p:nvGrpSpPr>
        <p:grpSpPr>
          <a:xfrm>
            <a:off x="6900120" y="152280"/>
            <a:ext cx="1099800" cy="2133360"/>
            <a:chOff x="6900120" y="152280"/>
            <a:chExt cx="1099800" cy="2133360"/>
          </a:xfrm>
        </p:grpSpPr>
        <p:grpSp>
          <p:nvGrpSpPr>
            <p:cNvPr id="115" name=""/>
            <p:cNvGrpSpPr/>
            <p:nvPr/>
          </p:nvGrpSpPr>
          <p:grpSpPr>
            <a:xfrm>
              <a:off x="6900120" y="152280"/>
              <a:ext cx="1099800" cy="609480"/>
              <a:chOff x="6900120" y="152280"/>
              <a:chExt cx="1099800" cy="609480"/>
            </a:xfrm>
          </p:grpSpPr>
          <p:sp>
            <p:nvSpPr>
              <p:cNvPr id="116" name=""/>
              <p:cNvSpPr/>
              <p:nvPr/>
            </p:nvSpPr>
            <p:spPr>
              <a:xfrm>
                <a:off x="6918120" y="152280"/>
                <a:ext cx="1067040" cy="609480"/>
              </a:xfrm>
              <a:prstGeom prst="roundRect">
                <a:avLst>
                  <a:gd name="adj" fmla="val 259"/>
                </a:avLst>
              </a:prstGeom>
              <a:solidFill>
                <a:srgbClr val="58bef6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900120" y="315720"/>
                <a:ext cx="1099800" cy="3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gul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7467480" y="761760"/>
              <a:ext cx="1440" cy="1295280"/>
            </a:xfrm>
            <a:prstGeom prst="line">
              <a:avLst/>
            </a:prstGeom>
            <a:ln w="76320">
              <a:solidFill>
                <a:srgbClr val="58be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10280" y="1981080"/>
              <a:ext cx="914400" cy="304560"/>
            </a:xfrm>
            <a:custGeom>
              <a:avLst/>
              <a:gdLst/>
              <a:ahLst/>
              <a:rect l="l" t="t" r="r" b="b"/>
              <a:pathLst>
                <a:path w="2542" h="848">
                  <a:moveTo>
                    <a:pt x="2541" y="847"/>
                  </a:moveTo>
                  <a:cubicBezTo>
                    <a:pt x="2541" y="635"/>
                    <a:pt x="2436" y="423"/>
                    <a:pt x="2330" y="423"/>
                  </a:cubicBezTo>
                  <a:lnTo>
                    <a:pt x="1483" y="423"/>
                  </a:lnTo>
                  <a:cubicBezTo>
                    <a:pt x="1377" y="423"/>
                    <a:pt x="1271" y="211"/>
                    <a:pt x="1271" y="0"/>
                  </a:cubicBezTo>
                  <a:cubicBezTo>
                    <a:pt x="1271" y="211"/>
                    <a:pt x="1165" y="423"/>
                    <a:pt x="1059" y="423"/>
                  </a:cubicBezTo>
                  <a:lnTo>
                    <a:pt x="212" y="423"/>
                  </a:lnTo>
                  <a:cubicBezTo>
                    <a:pt x="106" y="423"/>
                    <a:pt x="0" y="635"/>
                    <a:pt x="0" y="847"/>
                  </a:cubicBezTo>
                </a:path>
              </a:pathLst>
            </a:custGeom>
            <a:noFill/>
            <a:ln w="76320">
              <a:solidFill>
                <a:srgbClr val="58be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600200" y="76320"/>
            <a:ext cx="990360" cy="2209680"/>
            <a:chOff x="1600200" y="76320"/>
            <a:chExt cx="990360" cy="2209680"/>
          </a:xfrm>
        </p:grpSpPr>
        <p:sp>
          <p:nvSpPr>
            <p:cNvPr id="121" name=""/>
            <p:cNvSpPr/>
            <p:nvPr/>
          </p:nvSpPr>
          <p:spPr>
            <a:xfrm>
              <a:off x="2057400" y="762120"/>
              <a:ext cx="1440" cy="1371600"/>
            </a:xfrm>
            <a:prstGeom prst="line">
              <a:avLst/>
            </a:prstGeom>
            <a:ln w="76320">
              <a:solidFill>
                <a:srgbClr val="ef91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04760" y="2057400"/>
              <a:ext cx="304920" cy="228600"/>
            </a:xfrm>
            <a:custGeom>
              <a:avLst/>
              <a:gdLst/>
              <a:ahLst/>
              <a:rect l="l" t="t" r="r" b="b"/>
              <a:pathLst>
                <a:path w="848" h="636">
                  <a:moveTo>
                    <a:pt x="0" y="635"/>
                  </a:moveTo>
                  <a:cubicBezTo>
                    <a:pt x="0" y="477"/>
                    <a:pt x="35" y="318"/>
                    <a:pt x="70" y="318"/>
                  </a:cubicBezTo>
                  <a:lnTo>
                    <a:pt x="353" y="318"/>
                  </a:lnTo>
                  <a:cubicBezTo>
                    <a:pt x="388" y="318"/>
                    <a:pt x="423" y="159"/>
                    <a:pt x="423" y="0"/>
                  </a:cubicBezTo>
                  <a:cubicBezTo>
                    <a:pt x="423" y="159"/>
                    <a:pt x="459" y="318"/>
                    <a:pt x="494" y="318"/>
                  </a:cubicBezTo>
                  <a:lnTo>
                    <a:pt x="777" y="318"/>
                  </a:lnTo>
                  <a:cubicBezTo>
                    <a:pt x="812" y="318"/>
                    <a:pt x="847" y="477"/>
                    <a:pt x="847" y="635"/>
                  </a:cubicBezTo>
                </a:path>
              </a:pathLst>
            </a:custGeom>
            <a:noFill/>
            <a:ln w="63360">
              <a:solidFill>
                <a:srgbClr val="ef91d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1600200" y="76320"/>
              <a:ext cx="990360" cy="685800"/>
              <a:chOff x="1600200" y="76320"/>
              <a:chExt cx="990360" cy="685800"/>
            </a:xfrm>
          </p:grpSpPr>
          <p:sp>
            <p:nvSpPr>
              <p:cNvPr id="124" name=""/>
              <p:cNvSpPr/>
              <p:nvPr/>
            </p:nvSpPr>
            <p:spPr>
              <a:xfrm>
                <a:off x="1600200" y="76320"/>
                <a:ext cx="990360" cy="685800"/>
              </a:xfrm>
              <a:prstGeom prst="roundRect">
                <a:avLst>
                  <a:gd name="adj" fmla="val 231"/>
                </a:avLst>
              </a:prstGeom>
              <a:solidFill>
                <a:srgbClr val="ef91d6">
                  <a:alpha val="4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682640" y="228600"/>
                <a:ext cx="752400" cy="3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e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" name=""/>
          <p:cNvGrpSpPr/>
          <p:nvPr/>
        </p:nvGrpSpPr>
        <p:grpSpPr>
          <a:xfrm>
            <a:off x="8001000" y="914400"/>
            <a:ext cx="990360" cy="1371600"/>
            <a:chOff x="8001000" y="914400"/>
            <a:chExt cx="990360" cy="1371600"/>
          </a:xfrm>
        </p:grpSpPr>
        <p:grpSp>
          <p:nvGrpSpPr>
            <p:cNvPr id="127" name=""/>
            <p:cNvGrpSpPr/>
            <p:nvPr/>
          </p:nvGrpSpPr>
          <p:grpSpPr>
            <a:xfrm>
              <a:off x="8001000" y="914400"/>
              <a:ext cx="990360" cy="685800"/>
              <a:chOff x="8001000" y="914400"/>
              <a:chExt cx="990360" cy="685800"/>
            </a:xfrm>
          </p:grpSpPr>
          <p:sp>
            <p:nvSpPr>
              <p:cNvPr id="128" name=""/>
              <p:cNvSpPr/>
              <p:nvPr/>
            </p:nvSpPr>
            <p:spPr>
              <a:xfrm>
                <a:off x="8001000" y="914400"/>
                <a:ext cx="990360" cy="685800"/>
              </a:xfrm>
              <a:prstGeom prst="roundRect">
                <a:avLst>
                  <a:gd name="adj" fmla="val 231"/>
                </a:avLst>
              </a:prstGeom>
              <a:solidFill>
                <a:srgbClr val="ef91d6">
                  <a:alpha val="4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083440" y="1067040"/>
                <a:ext cx="752400" cy="3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e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8458200" y="1600200"/>
              <a:ext cx="1440" cy="457200"/>
            </a:xfrm>
            <a:prstGeom prst="line">
              <a:avLst/>
            </a:prstGeom>
            <a:ln w="76320">
              <a:solidFill>
                <a:srgbClr val="ef91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05560" y="2057400"/>
              <a:ext cx="304920" cy="228600"/>
            </a:xfrm>
            <a:custGeom>
              <a:avLst/>
              <a:gdLst/>
              <a:ahLst/>
              <a:rect l="l" t="t" r="r" b="b"/>
              <a:pathLst>
                <a:path w="848" h="636">
                  <a:moveTo>
                    <a:pt x="0" y="635"/>
                  </a:moveTo>
                  <a:cubicBezTo>
                    <a:pt x="0" y="477"/>
                    <a:pt x="35" y="318"/>
                    <a:pt x="70" y="318"/>
                  </a:cubicBezTo>
                  <a:lnTo>
                    <a:pt x="353" y="318"/>
                  </a:lnTo>
                  <a:cubicBezTo>
                    <a:pt x="388" y="318"/>
                    <a:pt x="423" y="159"/>
                    <a:pt x="423" y="0"/>
                  </a:cubicBezTo>
                  <a:cubicBezTo>
                    <a:pt x="423" y="159"/>
                    <a:pt x="459" y="318"/>
                    <a:pt x="494" y="318"/>
                  </a:cubicBezTo>
                  <a:lnTo>
                    <a:pt x="777" y="318"/>
                  </a:lnTo>
                  <a:cubicBezTo>
                    <a:pt x="812" y="318"/>
                    <a:pt x="847" y="477"/>
                    <a:pt x="847" y="635"/>
                  </a:cubicBezTo>
                </a:path>
              </a:pathLst>
            </a:custGeom>
            <a:noFill/>
            <a:ln w="63360">
              <a:solidFill>
                <a:srgbClr val="ef91d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181480" y="914400"/>
            <a:ext cx="1071000" cy="1371600"/>
            <a:chOff x="5181480" y="914400"/>
            <a:chExt cx="1071000" cy="1371600"/>
          </a:xfrm>
        </p:grpSpPr>
        <p:grpSp>
          <p:nvGrpSpPr>
            <p:cNvPr id="133" name=""/>
            <p:cNvGrpSpPr/>
            <p:nvPr/>
          </p:nvGrpSpPr>
          <p:grpSpPr>
            <a:xfrm>
              <a:off x="5181480" y="914400"/>
              <a:ext cx="1071000" cy="685800"/>
              <a:chOff x="5181480" y="914400"/>
              <a:chExt cx="1071000" cy="685800"/>
            </a:xfrm>
          </p:grpSpPr>
          <p:sp>
            <p:nvSpPr>
              <p:cNvPr id="134" name=""/>
              <p:cNvSpPr/>
              <p:nvPr/>
            </p:nvSpPr>
            <p:spPr>
              <a:xfrm>
                <a:off x="5181480" y="914400"/>
                <a:ext cx="1066680" cy="685800"/>
              </a:xfrm>
              <a:prstGeom prst="roundRect">
                <a:avLst>
                  <a:gd name="adj" fmla="val 231"/>
                </a:avLst>
              </a:prstGeom>
              <a:solidFill>
                <a:srgbClr val="ff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239800" y="1001880"/>
                <a:ext cx="1012680" cy="51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lecula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unc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5715000" y="1600200"/>
              <a:ext cx="1440" cy="53352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62360" y="2057400"/>
              <a:ext cx="304920" cy="228600"/>
            </a:xfrm>
            <a:custGeom>
              <a:avLst/>
              <a:gdLst/>
              <a:ahLst/>
              <a:rect l="l" t="t" r="r" b="b"/>
              <a:pathLst>
                <a:path w="848" h="636">
                  <a:moveTo>
                    <a:pt x="0" y="635"/>
                  </a:moveTo>
                  <a:cubicBezTo>
                    <a:pt x="0" y="477"/>
                    <a:pt x="35" y="318"/>
                    <a:pt x="70" y="318"/>
                  </a:cubicBezTo>
                  <a:lnTo>
                    <a:pt x="353" y="318"/>
                  </a:lnTo>
                  <a:cubicBezTo>
                    <a:pt x="388" y="318"/>
                    <a:pt x="423" y="159"/>
                    <a:pt x="423" y="0"/>
                  </a:cubicBezTo>
                  <a:cubicBezTo>
                    <a:pt x="423" y="159"/>
                    <a:pt x="459" y="318"/>
                    <a:pt x="494" y="318"/>
                  </a:cubicBezTo>
                  <a:lnTo>
                    <a:pt x="777" y="318"/>
                  </a:lnTo>
                  <a:cubicBezTo>
                    <a:pt x="812" y="318"/>
                    <a:pt x="847" y="477"/>
                    <a:pt x="847" y="635"/>
                  </a:cubicBezTo>
                </a:path>
              </a:pathLst>
            </a:custGeom>
            <a:noFill/>
            <a:ln w="63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09480" y="914400"/>
            <a:ext cx="1143000" cy="1369800"/>
            <a:chOff x="609480" y="914400"/>
            <a:chExt cx="1143000" cy="1369800"/>
          </a:xfrm>
        </p:grpSpPr>
        <p:grpSp>
          <p:nvGrpSpPr>
            <p:cNvPr id="139" name=""/>
            <p:cNvGrpSpPr/>
            <p:nvPr/>
          </p:nvGrpSpPr>
          <p:grpSpPr>
            <a:xfrm>
              <a:off x="685800" y="1600200"/>
              <a:ext cx="912600" cy="684000"/>
              <a:chOff x="685800" y="1600200"/>
              <a:chExt cx="912600" cy="684000"/>
            </a:xfrm>
          </p:grpSpPr>
          <p:sp>
            <p:nvSpPr>
              <p:cNvPr id="140" name=""/>
              <p:cNvSpPr/>
              <p:nvPr/>
            </p:nvSpPr>
            <p:spPr>
              <a:xfrm>
                <a:off x="1141920" y="1600200"/>
                <a:ext cx="1080" cy="608400"/>
              </a:xfrm>
              <a:prstGeom prst="line">
                <a:avLst/>
              </a:prstGeom>
              <a:ln w="76320">
                <a:solidFill>
                  <a:srgbClr val="8ef8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85800" y="2132280"/>
                <a:ext cx="912600" cy="151920"/>
              </a:xfrm>
              <a:custGeom>
                <a:avLst/>
                <a:gdLst/>
                <a:ahLst/>
                <a:rect l="l" t="t" r="r" b="b"/>
                <a:pathLst>
                  <a:path w="2541" h="424">
                    <a:moveTo>
                      <a:pt x="2540" y="423"/>
                    </a:moveTo>
                    <a:cubicBezTo>
                      <a:pt x="2540" y="317"/>
                      <a:pt x="2435" y="211"/>
                      <a:pt x="2329" y="211"/>
                    </a:cubicBezTo>
                    <a:lnTo>
                      <a:pt x="1482" y="211"/>
                    </a:lnTo>
                    <a:cubicBezTo>
                      <a:pt x="1376" y="211"/>
                      <a:pt x="1270" y="105"/>
                      <a:pt x="1270" y="0"/>
                    </a:cubicBezTo>
                    <a:cubicBezTo>
                      <a:pt x="1270" y="105"/>
                      <a:pt x="1165" y="211"/>
                      <a:pt x="1059" y="211"/>
                    </a:cubicBezTo>
                    <a:lnTo>
                      <a:pt x="212" y="211"/>
                    </a:lnTo>
                    <a:cubicBezTo>
                      <a:pt x="106" y="211"/>
                      <a:pt x="0" y="317"/>
                      <a:pt x="0" y="423"/>
                    </a:cubicBezTo>
                  </a:path>
                </a:pathLst>
              </a:custGeom>
              <a:noFill/>
              <a:ln w="76320">
                <a:solidFill>
                  <a:srgbClr val="8ef83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609480" y="914400"/>
              <a:ext cx="1143000" cy="685800"/>
              <a:chOff x="609480" y="914400"/>
              <a:chExt cx="1143000" cy="685800"/>
            </a:xfrm>
          </p:grpSpPr>
          <p:sp>
            <p:nvSpPr>
              <p:cNvPr id="143" name=""/>
              <p:cNvSpPr/>
              <p:nvPr/>
            </p:nvSpPr>
            <p:spPr>
              <a:xfrm>
                <a:off x="609480" y="914400"/>
                <a:ext cx="1143000" cy="685800"/>
              </a:xfrm>
              <a:prstGeom prst="roundRect">
                <a:avLst>
                  <a:gd name="adj" fmla="val 231"/>
                </a:avLst>
              </a:prstGeom>
              <a:solidFill>
                <a:srgbClr val="8ef83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67440" y="1001880"/>
                <a:ext cx="1032480" cy="51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iologic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ce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" name=""/>
          <p:cNvSpPr/>
          <p:nvPr/>
        </p:nvSpPr>
        <p:spPr>
          <a:xfrm>
            <a:off x="953280" y="3068640"/>
            <a:ext cx="764856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?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xml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rsion="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1.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" encoding="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O-8859-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" standalone="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" 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!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DOCTYPE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icle SYSTEM "/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var/www/html/textpresso.dtd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articl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 /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sentence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d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s7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'&gt; /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process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rammar 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NN'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textpresso'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ype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general'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iosynthesis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no'&gt; </a:t>
            </a:r>
            <a:r>
              <a:rPr b="1" lang="en-US" sz="1200" spc="-1" strike="noStrike">
                <a:solidFill>
                  <a:srgbClr val="ff3399"/>
                </a:solidFill>
                <a:latin typeface="Times New Roman"/>
              </a:rPr>
              <a:t>activati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proces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pposition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rammar 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IN'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ype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of'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3399"/>
                </a:solidFill>
                <a:latin typeface="Times New Roman"/>
              </a:rPr>
              <a:t>of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ppositi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gene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rammar 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JJ'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direct'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3399"/>
                </a:solidFill>
                <a:latin typeface="Times New Roman"/>
              </a:rPr>
              <a:t>let-7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gen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tex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en-US" sz="1200" spc="-1" strike="noStrike">
                <a:solidFill>
                  <a:srgbClr val="ff3399"/>
                </a:solidFill>
                <a:latin typeface="Times New Roman"/>
              </a:rPr>
              <a:t>RNA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tex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process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rammar 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NN'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textpresso'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ype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molecular'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iosynthesis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expression'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3399"/>
                </a:solidFill>
                <a:latin typeface="Times New Roman"/>
              </a:rPr>
              <a:t>expressi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proces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regulation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rammar 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NNS'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ype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negative'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3399"/>
                </a:solidFill>
                <a:latin typeface="Times New Roman"/>
              </a:rPr>
              <a:t>down regulate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regulati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functio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rammar 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NNP'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direct'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textpresso'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tein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yes'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3399"/>
                </a:solidFill>
                <a:latin typeface="Times New Roman"/>
              </a:rPr>
              <a:t>LIN-41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functi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pposition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rammar 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TO'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ype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to'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en-US" sz="1200" spc="-1" strike="noStrike">
                <a:solidFill>
                  <a:srgbClr val="ff3399"/>
                </a:solidFill>
                <a:latin typeface="Times New Roman"/>
              </a:rPr>
              <a:t>to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ppositi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tex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en-US" sz="1200" spc="-1" strike="noStrike">
                <a:solidFill>
                  <a:srgbClr val="ff3399"/>
                </a:solidFill>
                <a:latin typeface="Times New Roman"/>
              </a:rPr>
              <a:t>reliev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tex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regulatio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rammar 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NNS'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ype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negative'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3399"/>
                </a:solidFill>
                <a:latin typeface="Times New Roman"/>
              </a:rPr>
              <a:t>inhibitio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regulati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pposition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rammar 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IN'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ype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of'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3399"/>
                </a:solidFill>
                <a:latin typeface="Times New Roman"/>
              </a:rPr>
              <a:t>o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ppositi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gene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rammar 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NNP'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direct'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3399"/>
                </a:solidFill>
                <a:latin typeface="Times New Roman"/>
              </a:rPr>
              <a:t>lin-29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gen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tex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. &lt;/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tex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sentenc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 /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articl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152280" y="1295280"/>
            <a:ext cx="8839440" cy="3200400"/>
            <a:chOff x="152280" y="1295280"/>
            <a:chExt cx="8839440" cy="3200400"/>
          </a:xfrm>
        </p:grpSpPr>
        <p:sp>
          <p:nvSpPr>
            <p:cNvPr id="147" name=""/>
            <p:cNvSpPr/>
            <p:nvPr/>
          </p:nvSpPr>
          <p:spPr>
            <a:xfrm>
              <a:off x="152280" y="1295280"/>
              <a:ext cx="8839440" cy="3200400"/>
            </a:xfrm>
            <a:prstGeom prst="roundRect">
              <a:avLst>
                <a:gd name="adj" fmla="val 46"/>
              </a:avLst>
            </a:prstGeom>
            <a:solidFill>
              <a:srgbClr val="ffff00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5560" y="1371600"/>
              <a:ext cx="7960680" cy="68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990000"/>
                  </a:solidFill>
                  <a:latin typeface="Arial"/>
                </a:rPr>
                <a:t>What genes does let-7 regulate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09680" y="2209680"/>
              <a:ext cx="3787920" cy="62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Keyword: “let-7”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03920" y="3047760"/>
              <a:ext cx="5260320" cy="62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ategory: “Regulation”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09320" y="3854160"/>
              <a:ext cx="4042440" cy="62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ategory: “Gene”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71600" y="520560"/>
            <a:ext cx="7493040" cy="2781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68120" y="4449600"/>
            <a:ext cx="8755200" cy="5540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265480" y="0"/>
            <a:ext cx="43369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1900"/>
                </a:solidFill>
                <a:latin typeface="Utopia"/>
              </a:rPr>
              <a:t> </a:t>
            </a:r>
            <a:r>
              <a:rPr b="1" i="1" lang="en-US" sz="3200" spc="-1" strike="noStrike">
                <a:solidFill>
                  <a:srgbClr val="5e11a6"/>
                </a:solidFill>
                <a:latin typeface="Utopia"/>
              </a:rPr>
              <a:t>www.textpresso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81240" y="790560"/>
            <a:ext cx="1046160" cy="430200"/>
          </a:xfrm>
          <a:prstGeom prst="ellipse">
            <a:avLst/>
          </a:prstGeom>
          <a:noFill/>
          <a:ln w="72000">
            <a:solidFill>
              <a:srgbClr val="2800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25440" y="1251000"/>
            <a:ext cx="3859200" cy="1154160"/>
          </a:xfrm>
          <a:prstGeom prst="ellipse">
            <a:avLst/>
          </a:prstGeom>
          <a:noFill/>
          <a:ln w="72000">
            <a:solidFill>
              <a:srgbClr val="2800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1811160" y="3271320"/>
            <a:ext cx="1098000" cy="1112040"/>
          </a:xfrm>
          <a:prstGeom prst="bentConnector3">
            <a:avLst>
              <a:gd name="adj1" fmla="val 49983"/>
            </a:avLst>
          </a:prstGeom>
          <a:ln w="72000">
            <a:solidFill>
              <a:srgbClr val="280099"/>
            </a:solidFill>
            <a:miter/>
            <a:tailEnd len="lg" type="triangle" w="lg"/>
          </a:ln>
        </p:spPr>
      </p:cxnSp>
      <p:sp>
        <p:nvSpPr>
          <p:cNvPr id="158" name=""/>
          <p:cNvSpPr/>
          <p:nvPr/>
        </p:nvSpPr>
        <p:spPr>
          <a:xfrm>
            <a:off x="4255560" y="3417840"/>
            <a:ext cx="487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80047"/>
                </a:solidFill>
                <a:latin typeface="Arial"/>
              </a:rPr>
              <a:t>Facts returned from Journal articles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92840" y="3760920"/>
            <a:ext cx="1539720" cy="555480"/>
          </a:xfrm>
          <a:custGeom>
            <a:avLst/>
            <a:gdLst/>
            <a:ahLst/>
            <a:rect l="l" t="t" r="r" b="b"/>
            <a:pathLst>
              <a:path w="4276" h="1543">
                <a:moveTo>
                  <a:pt x="4145" y="0"/>
                </a:moveTo>
                <a:cubicBezTo>
                  <a:pt x="4270" y="187"/>
                  <a:pt x="4275" y="550"/>
                  <a:pt x="3914" y="575"/>
                </a:cubicBezTo>
                <a:cubicBezTo>
                  <a:pt x="3660" y="593"/>
                  <a:pt x="3398" y="613"/>
                  <a:pt x="3147" y="575"/>
                </a:cubicBezTo>
                <a:cubicBezTo>
                  <a:pt x="2882" y="536"/>
                  <a:pt x="2617" y="569"/>
                  <a:pt x="2352" y="535"/>
                </a:cubicBezTo>
                <a:cubicBezTo>
                  <a:pt x="2085" y="499"/>
                  <a:pt x="1808" y="508"/>
                  <a:pt x="1535" y="535"/>
                </a:cubicBezTo>
                <a:cubicBezTo>
                  <a:pt x="1274" y="558"/>
                  <a:pt x="938" y="503"/>
                  <a:pt x="767" y="678"/>
                </a:cubicBezTo>
                <a:cubicBezTo>
                  <a:pt x="548" y="904"/>
                  <a:pt x="354" y="1128"/>
                  <a:pt x="153" y="1357"/>
                </a:cubicBezTo>
                <a:lnTo>
                  <a:pt x="0" y="1542"/>
                </a:lnTo>
              </a:path>
            </a:pathLst>
          </a:custGeom>
          <a:noFill/>
          <a:ln w="72000">
            <a:solidFill>
              <a:srgbClr val="b80047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7400" y="762120"/>
            <a:ext cx="1076760" cy="2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Key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24480" y="1655640"/>
            <a:ext cx="12304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Utopia"/>
              </a:rPr>
              <a:t>Categ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89000" y="5141880"/>
            <a:ext cx="8770680" cy="5065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185760" y="5756400"/>
            <a:ext cx="8818560" cy="4809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168120" y="6345360"/>
            <a:ext cx="8853480" cy="43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495680" y="228600"/>
            <a:ext cx="3276720" cy="838080"/>
          </a:xfrm>
          <a:prstGeom prst="rect">
            <a:avLst/>
          </a:prstGeom>
          <a:solidFill>
            <a:srgbClr val="0099ff">
              <a:alpha val="61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876920"/>
            <a:ext cx="6629400" cy="1066680"/>
          </a:xfrm>
          <a:prstGeom prst="rect">
            <a:avLst/>
          </a:prstGeom>
          <a:solidFill>
            <a:srgbClr val="969696">
              <a:alpha val="51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6248520"/>
            <a:ext cx="1600200" cy="457200"/>
          </a:xfrm>
          <a:prstGeom prst="rect">
            <a:avLst/>
          </a:prstGeom>
          <a:solidFill>
            <a:srgbClr val="00cc99">
              <a:alpha val="49000"/>
            </a:srgbClr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29840" y="380880"/>
            <a:ext cx="11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82560" y="1600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79520" y="3124080"/>
            <a:ext cx="12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04280" y="499752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ota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9760" y="30492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55600" y="4572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8720" y="51814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36160" y="4952880"/>
            <a:ext cx="1081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tio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88720" y="624852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Ma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6320" y="990720"/>
            <a:ext cx="1600200" cy="457200"/>
            <a:chOff x="76320" y="990720"/>
            <a:chExt cx="1600200" cy="457200"/>
          </a:xfrm>
        </p:grpSpPr>
        <p:sp>
          <p:nvSpPr>
            <p:cNvPr id="178" name=""/>
            <p:cNvSpPr/>
            <p:nvPr/>
          </p:nvSpPr>
          <p:spPr>
            <a:xfrm>
              <a:off x="76320" y="990720"/>
              <a:ext cx="1600200" cy="457200"/>
            </a:xfrm>
            <a:prstGeom prst="rect">
              <a:avLst/>
            </a:prstGeom>
            <a:solidFill>
              <a:srgbClr val="00cc99">
                <a:alpha val="49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400" y="1066680"/>
              <a:ext cx="113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DF2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6320" y="2362320"/>
            <a:ext cx="1600200" cy="457200"/>
            <a:chOff x="76320" y="2362320"/>
            <a:chExt cx="1600200" cy="457200"/>
          </a:xfrm>
        </p:grpSpPr>
        <p:sp>
          <p:nvSpPr>
            <p:cNvPr id="181" name=""/>
            <p:cNvSpPr/>
            <p:nvPr/>
          </p:nvSpPr>
          <p:spPr>
            <a:xfrm>
              <a:off x="76320" y="2362320"/>
              <a:ext cx="1600200" cy="457200"/>
            </a:xfrm>
            <a:prstGeom prst="rect">
              <a:avLst/>
            </a:prstGeom>
            <a:solidFill>
              <a:srgbClr val="00cc99">
                <a:alpha val="49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560" y="236232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eproces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6320" y="4038480"/>
            <a:ext cx="1600200" cy="457200"/>
            <a:chOff x="76320" y="4038480"/>
            <a:chExt cx="1600200" cy="457200"/>
          </a:xfrm>
        </p:grpSpPr>
        <p:sp>
          <p:nvSpPr>
            <p:cNvPr id="184" name=""/>
            <p:cNvSpPr/>
            <p:nvPr/>
          </p:nvSpPr>
          <p:spPr>
            <a:xfrm>
              <a:off x="76320" y="4038480"/>
              <a:ext cx="1600200" cy="457200"/>
            </a:xfrm>
            <a:prstGeom prst="rect">
              <a:avLst/>
            </a:prstGeom>
            <a:solidFill>
              <a:srgbClr val="00cc99">
                <a:alpha val="49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0760" y="403848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2X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895480" y="3886200"/>
            <a:ext cx="1828800" cy="838080"/>
            <a:chOff x="2895480" y="3886200"/>
            <a:chExt cx="1828800" cy="838080"/>
          </a:xfrm>
        </p:grpSpPr>
        <p:sp>
          <p:nvSpPr>
            <p:cNvPr id="187" name=""/>
            <p:cNvSpPr/>
            <p:nvPr/>
          </p:nvSpPr>
          <p:spPr>
            <a:xfrm>
              <a:off x="2895480" y="3886200"/>
              <a:ext cx="1828800" cy="838080"/>
            </a:xfrm>
            <a:prstGeom prst="hexagon">
              <a:avLst>
                <a:gd name="adj" fmla="val 54553"/>
                <a:gd name="vf" fmla="val 115470"/>
              </a:avLst>
            </a:prstGeom>
            <a:solidFill>
              <a:srgbClr val="cc0000">
                <a:alpha val="48000"/>
              </a:srgbClr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26240" y="4006440"/>
              <a:ext cx="131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pres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t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375280" y="5878440"/>
            <a:ext cx="19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extpresso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990720"/>
            <a:ext cx="0" cy="685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1981080"/>
            <a:ext cx="0" cy="1219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3809880"/>
            <a:ext cx="0" cy="1219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057040" y="4267080"/>
            <a:ext cx="685800" cy="0"/>
          </a:xfrm>
          <a:prstGeom prst="line">
            <a:avLst/>
          </a:prstGeom>
          <a:ln w="889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133360" y="914400"/>
            <a:ext cx="2971800" cy="838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10280" y="914400"/>
            <a:ext cx="0" cy="4114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95680" y="5562720"/>
            <a:ext cx="0" cy="609480"/>
          </a:xfrm>
          <a:prstGeom prst="line">
            <a:avLst/>
          </a:prstGeom>
          <a:ln w="3168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54360" y="5715000"/>
            <a:ext cx="1726920" cy="977760"/>
          </a:xfrm>
          <a:custGeom>
            <a:avLst/>
            <a:gdLst/>
            <a:ahLst/>
            <a:rect l="l" t="t" r="r" b="b"/>
            <a:pathLst>
              <a:path w="1088" h="616">
                <a:moveTo>
                  <a:pt x="32" y="0"/>
                </a:moveTo>
                <a:cubicBezTo>
                  <a:pt x="16" y="220"/>
                  <a:pt x="0" y="440"/>
                  <a:pt x="176" y="528"/>
                </a:cubicBezTo>
                <a:cubicBezTo>
                  <a:pt x="352" y="616"/>
                  <a:pt x="720" y="572"/>
                  <a:pt x="1088" y="52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562000" y="5715000"/>
            <a:ext cx="1600200" cy="977760"/>
          </a:xfrm>
          <a:custGeom>
            <a:avLst/>
            <a:gdLst/>
            <a:ahLst/>
            <a:rect l="l" t="t" r="r" b="b"/>
            <a:pathLst>
              <a:path w="1088" h="616">
                <a:moveTo>
                  <a:pt x="32" y="0"/>
                </a:moveTo>
                <a:cubicBezTo>
                  <a:pt x="16" y="220"/>
                  <a:pt x="0" y="440"/>
                  <a:pt x="176" y="528"/>
                </a:cubicBezTo>
                <a:cubicBezTo>
                  <a:pt x="352" y="616"/>
                  <a:pt x="720" y="572"/>
                  <a:pt x="1088" y="52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1440" y="1143000"/>
            <a:ext cx="193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Wormbase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2362320" y="990360"/>
            <a:ext cx="4495680" cy="3809880"/>
          </a:xfrm>
          <a:prstGeom prst="line">
            <a:avLst/>
          </a:prstGeom>
          <a:ln w="38160">
            <a:solidFill>
              <a:srgbClr val="cc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7238880" y="838080"/>
            <a:ext cx="0" cy="4114800"/>
          </a:xfrm>
          <a:prstGeom prst="line">
            <a:avLst/>
          </a:prstGeom>
          <a:ln w="38160">
            <a:solidFill>
              <a:srgbClr val="cc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467480" y="4038480"/>
            <a:ext cx="457200" cy="914400"/>
          </a:xfrm>
          <a:prstGeom prst="line">
            <a:avLst/>
          </a:prstGeom>
          <a:ln w="38160">
            <a:solidFill>
              <a:srgbClr val="cc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70000" y="33210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ur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-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7620120" y="4876560"/>
            <a:ext cx="457200" cy="228600"/>
          </a:xfrm>
          <a:prstGeom prst="line">
            <a:avLst/>
          </a:prstGeom>
          <a:ln w="38160">
            <a:solidFill>
              <a:srgbClr val="cc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971480" y="466236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M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92760" y="2529000"/>
            <a:ext cx="20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Link 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05720" y="5257800"/>
            <a:ext cx="761760" cy="457200"/>
          </a:xfrm>
          <a:prstGeom prst="rect">
            <a:avLst/>
          </a:prstGeom>
          <a:noFill/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ess since April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xtpress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a new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xtpress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rpus (~2,700 ful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reparing PDF2text for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40840" y="30492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DF2te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52520" y="2209680"/>
            <a:ext cx="7813800" cy="2898000"/>
            <a:chOff x="452520" y="2209680"/>
            <a:chExt cx="7813800" cy="2898000"/>
          </a:xfrm>
        </p:grpSpPr>
        <p:sp>
          <p:nvSpPr>
            <p:cNvPr id="213" name=""/>
            <p:cNvSpPr/>
            <p:nvPr/>
          </p:nvSpPr>
          <p:spPr>
            <a:xfrm>
              <a:off x="452520" y="3276360"/>
              <a:ext cx="761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ritten in Perl and Python by Robert Li @ Calte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0520" y="3962160"/>
              <a:ext cx="776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lies on Journal specific templates (Daniel Wan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7440" y="2209680"/>
              <a:ext cx="7778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to convert electronic journal article PDF’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 correctly flowing ASCII tex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5640" y="4647960"/>
              <a:ext cx="693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tilizes .pos output of generic pdf2text (xpdf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-189360" y="4997520"/>
            <a:ext cx="936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American Typewriter Condensed L"/>
              </a:rPr>
              <a:t>Null mutations in the C. elegans heterochronic gene lin-41 cause precocious expression of adult fate at</a:t>
            </a:r>
            <a:r>
              <a:rPr b="1" lang="en-US" sz="1600" spc="-1" strike="noStrike">
                <a:solidFill>
                  <a:srgbClr val="ff3399"/>
                </a:solidFill>
                <a:latin typeface="American Typewriter Condensed 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6120" y="914400"/>
            <a:ext cx="484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merican Typewriter Condensed L"/>
              </a:rPr>
              <a:t>21 nucleotide regulatory RNA. A lin-41::GFP fus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merican Typewriter Condensed L"/>
              </a:rPr>
              <a:t>gene is downregulated in tissues affected in late lar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5120" y="5335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680" y="14479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6080" y="189000"/>
            <a:ext cx="37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column PDF Journal form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3000" y="205740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cal conversion to ASCII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640" y="2438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-105840" y="2895480"/>
            <a:ext cx="922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American Typewriter Condensed L"/>
              </a:rPr>
              <a:t>Null mutations in the C. elegans heterochronic gene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 nucleotide regulatory RNA. A lin-41::GFP fusion</a:t>
            </a:r>
            <a:r>
              <a:rPr b="1" lang="en-US" sz="1400" spc="-1" strike="noStrike">
                <a:solidFill>
                  <a:srgbClr val="ff3399"/>
                </a:solidFill>
                <a:latin typeface="American Typewriter Condensed 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92160" y="3200400"/>
            <a:ext cx="91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American Typewriter Condensed L"/>
              </a:rPr>
              <a:t> </a:t>
            </a:r>
            <a:r>
              <a:rPr b="1" lang="en-US" sz="1400" spc="-1" strike="noStrike">
                <a:solidFill>
                  <a:srgbClr val="ff3399"/>
                </a:solidFill>
                <a:latin typeface="American Typewriter Condensed L"/>
              </a:rPr>
              <a:t>lin-41 cause precocious expression of adult fate at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gene is downregulated in tissues affected in late lar-</a:t>
            </a:r>
            <a:r>
              <a:rPr b="1" lang="en-US" sz="1400" spc="-1" strike="noStrike">
                <a:solidFill>
                  <a:srgbClr val="ff3399"/>
                </a:solidFill>
                <a:latin typeface="American Typewriter Condensed 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640" y="34290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3000" y="4281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2text outpu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640" y="45720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-93960" y="914400"/>
            <a:ext cx="48729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American Typewriter Condensed L"/>
              </a:rPr>
              <a:t>Null mutations in the C. elegans heterochronic ge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American Typewriter Condensed L"/>
              </a:rPr>
              <a:t>lin-41 cause precocious expression of adult fate at</a:t>
            </a:r>
            <a:r>
              <a:rPr b="1" lang="en-US" sz="1600" spc="-1" strike="noStrike">
                <a:solidFill>
                  <a:srgbClr val="ff3399"/>
                </a:solidFill>
                <a:latin typeface="American Typewriter Condensed 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2640" y="53341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2640" y="60958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-119880" y="5791320"/>
            <a:ext cx="93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merican Typewriter Condensed L"/>
              </a:rPr>
              <a:t>21 nucleotide regulatory RNA. A lin-41::GFP fusion gene is downregulated in tissues affected in late lar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2776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work so well on older PDF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es on uniformity of article format within Jou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the development of temp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ess since April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xtpress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a new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xtpress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rpus (~2,750 ful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reparing PDF2text for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xtpress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per …. i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Begun Fact Extraction using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Textpresso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c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. elega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les from full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8954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ba-1(e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702720" y="1009800"/>
            <a:ext cx="3120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extraction patter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05280" y="1038600"/>
            <a:ext cx="4275000" cy="243720"/>
          </a:xfrm>
          <a:prstGeom prst="roundRect">
            <a:avLst>
              <a:gd name="adj" fmla="val 417"/>
            </a:avLst>
          </a:prstGeom>
          <a:solidFill>
            <a:srgbClr val="99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Utopia"/>
              </a:rPr>
              <a:t>&lt;gene&gt;&lt;bracket&gt;&lt;allele&gt;&lt;bracke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67200" y="1743120"/>
            <a:ext cx="102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:</a:t>
            </a:r>
            <a:r>
              <a:rPr b="0" lang="en-US" sz="2400" spc="-1" strike="noStrike">
                <a:solidFill>
                  <a:srgbClr val="1337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04880" y="1752480"/>
            <a:ext cx="1355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l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2400" y="2507760"/>
            <a:ext cx="2160720" cy="915120"/>
          </a:xfrm>
          <a:prstGeom prst="roundRect">
            <a:avLst>
              <a:gd name="adj" fmla="val 88"/>
            </a:avLst>
          </a:prstGeom>
          <a:solidFill>
            <a:srgbClr val="99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ocus: $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llele: $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vidence: $paperr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76560" y="2051280"/>
            <a:ext cx="979560" cy="3050280"/>
          </a:xfrm>
          <a:custGeom>
            <a:avLst/>
            <a:gdLst>
              <a:gd name="textAreaLeft" fmla="*/ 360 w 979560"/>
              <a:gd name="textAreaRight" fmla="*/ 979200 w 979560"/>
              <a:gd name="textAreaTop" fmla="*/ 360 h 3050280"/>
              <a:gd name="textAreaBottom" fmla="*/ 3049920 h 3050280"/>
            </a:gdLst>
            <a:ahLst/>
            <a:rect l="textAreaLeft" t="textAreaTop" r="textAreaRight" b="textAreaBottom"/>
            <a:pathLst>
              <a:path w="21600" h="67244">
                <a:moveTo>
                  <a:pt x="34" y="0"/>
                </a:moveTo>
                <a:arcTo wR="34" hR="34" stAng="16200000" swAng="-5400000"/>
                <a:lnTo>
                  <a:pt x="0" y="67210"/>
                </a:lnTo>
                <a:arcTo wR="34" hR="34" stAng="10800000" swAng="-5400000"/>
                <a:lnTo>
                  <a:pt x="21566" y="67244"/>
                </a:lnTo>
                <a:arcTo wR="34" hR="34" stAng="5400000" swAng="-5400000"/>
                <a:lnTo>
                  <a:pt x="21600" y="34"/>
                </a:lnTo>
                <a:arcTo wR="34" hR="34" stAng="0" swAng="-5400000"/>
                <a:close/>
              </a:path>
            </a:pathLst>
          </a:custGeom>
          <a:solidFill>
            <a:srgbClr val="99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G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ge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py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f-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n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c-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sm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n-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c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f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14880" y="2041920"/>
            <a:ext cx="1398600" cy="3050280"/>
          </a:xfrm>
          <a:custGeom>
            <a:avLst/>
            <a:gdLst>
              <a:gd name="textAreaLeft" fmla="*/ 360 w 1398600"/>
              <a:gd name="textAreaRight" fmla="*/ 1398240 w 1398600"/>
              <a:gd name="textAreaTop" fmla="*/ 360 h 3050280"/>
              <a:gd name="textAreaBottom" fmla="*/ 3049920 h 3050280"/>
            </a:gdLst>
            <a:ahLst/>
            <a:rect l="textAreaLeft" t="textAreaTop" r="textAreaRight" b="textAreaBottom"/>
            <a:pathLst>
              <a:path w="21600" h="47102">
                <a:moveTo>
                  <a:pt x="24" y="0"/>
                </a:moveTo>
                <a:arcTo wR="24" hR="24" stAng="16200000" swAng="-5400000"/>
                <a:lnTo>
                  <a:pt x="0" y="47078"/>
                </a:lnTo>
                <a:arcTo wR="24" hR="24" stAng="10800000" swAng="-5400000"/>
                <a:lnTo>
                  <a:pt x="21576" y="47102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solidFill>
            <a:srgbClr val="99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Evi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gc3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gc6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gc50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bg14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m97ab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gc20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mid312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uwm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gc3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105440" y="2051280"/>
            <a:ext cx="960120" cy="3050280"/>
          </a:xfrm>
          <a:custGeom>
            <a:avLst/>
            <a:gdLst>
              <a:gd name="textAreaLeft" fmla="*/ 360 w 960120"/>
              <a:gd name="textAreaRight" fmla="*/ 959760 w 960120"/>
              <a:gd name="textAreaTop" fmla="*/ 360 h 3050280"/>
              <a:gd name="textAreaBottom" fmla="*/ 3049920 h 3050280"/>
            </a:gdLst>
            <a:ahLst/>
            <a:rect l="textAreaLeft" t="textAreaTop" r="textAreaRight" b="textAreaBottom"/>
            <a:pathLst>
              <a:path w="21600" h="68605">
                <a:moveTo>
                  <a:pt x="35" y="0"/>
                </a:moveTo>
                <a:arcTo wR="35" hR="35" stAng="16200000" swAng="-5400000"/>
                <a:lnTo>
                  <a:pt x="0" y="68570"/>
                </a:lnTo>
                <a:arcTo wR="35" hR="35" stAng="10800000" swAng="-5400000"/>
                <a:lnTo>
                  <a:pt x="21565" y="68605"/>
                </a:lnTo>
                <a:arcTo wR="35" hR="35" stAng="5400000" swAng="-5400000"/>
                <a:lnTo>
                  <a:pt x="21600" y="35"/>
                </a:lnTo>
                <a:arcTo wR="35" hR="35" stAng="0" swAng="-5400000"/>
                <a:close/>
              </a:path>
            </a:pathLst>
          </a:custGeom>
          <a:solidFill>
            <a:srgbClr val="99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All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x5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g51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6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1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8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3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13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2036880"/>
            <a:ext cx="1246320" cy="3137760"/>
          </a:xfrm>
          <a:custGeom>
            <a:avLst/>
            <a:gdLst>
              <a:gd name="textAreaLeft" fmla="*/ 360 w 1246320"/>
              <a:gd name="textAreaRight" fmla="*/ 1245960 w 1246320"/>
              <a:gd name="textAreaTop" fmla="*/ 360 h 3137760"/>
              <a:gd name="textAreaBottom" fmla="*/ 3137400 h 3137760"/>
            </a:gdLst>
            <a:ahLst/>
            <a:rect l="textAreaLeft" t="textAreaTop" r="textAreaRight" b="textAreaBottom"/>
            <a:pathLst>
              <a:path w="21600" h="54371">
                <a:moveTo>
                  <a:pt x="27" y="0"/>
                </a:moveTo>
                <a:arcTo wR="27" hR="27" stAng="16200000" swAng="-5400000"/>
                <a:lnTo>
                  <a:pt x="0" y="54344"/>
                </a:lnTo>
                <a:arcTo wR="27" hR="27" stAng="10800000" swAng="-5400000"/>
                <a:lnTo>
                  <a:pt x="21573" y="54371"/>
                </a:lnTo>
                <a:arcTo wR="27" hR="27" stAng="5400000" swAng="-5400000"/>
                <a:lnTo>
                  <a:pt x="21600" y="27"/>
                </a:lnTo>
                <a:arcTo wR="27" hR="27" stAng="0" swAng="-5400000"/>
                <a:close/>
              </a:path>
            </a:pathLst>
          </a:custGeom>
          <a:solidFill>
            <a:srgbClr val="99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Sen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..age-1(hx546)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..expressed in.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sm-3(p802) w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ound to be...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48720" y="2049840"/>
            <a:ext cx="960480" cy="3050280"/>
          </a:xfrm>
          <a:custGeom>
            <a:avLst/>
            <a:gdLst>
              <a:gd name="textAreaLeft" fmla="*/ 360 w 960480"/>
              <a:gd name="textAreaRight" fmla="*/ 960120 w 960480"/>
              <a:gd name="textAreaTop" fmla="*/ 360 h 3050280"/>
              <a:gd name="textAreaBottom" fmla="*/ 3049920 h 3050280"/>
            </a:gdLst>
            <a:ahLst/>
            <a:rect l="textAreaLeft" t="textAreaTop" r="textAreaRight" b="textAreaBottom"/>
            <a:pathLst>
              <a:path w="21600" h="68579">
                <a:moveTo>
                  <a:pt x="35" y="0"/>
                </a:moveTo>
                <a:arcTo wR="35" hR="35" stAng="16200000" swAng="-5400000"/>
                <a:lnTo>
                  <a:pt x="0" y="68544"/>
                </a:lnTo>
                <a:arcTo wR="35" hR="35" stAng="10800000" swAng="-5400000"/>
                <a:lnTo>
                  <a:pt x="21565" y="68579"/>
                </a:lnTo>
                <a:arcTo wR="35" hR="35" stAng="5400000" swAng="-5400000"/>
                <a:lnTo>
                  <a:pt x="21600" y="35"/>
                </a:lnTo>
                <a:arcTo wR="35" hR="35" stAng="0" swAng="-5400000"/>
                <a:close/>
              </a:path>
            </a:pathLst>
          </a:custGeom>
          <a:solidFill>
            <a:srgbClr val="99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Ac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/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/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/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/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/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/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/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/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/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964240" y="69120"/>
            <a:ext cx="266184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ele : te2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             oma-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erence        [cgc5198]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ele : s1733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             let-653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erence        [wbg11.1p21]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ele : s1733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             let-653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erence        [cgc3721]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ele : te5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             oma-2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erence        [cgc5198]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ele : s1748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             let-655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erence        [cgc3120]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ele : tm29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             pip-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erence        [wm2001p213]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ele : gm85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             fam-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erence        [cgc2795]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ele : gm85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             fam-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erence        [cgc2978]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4440" y="469800"/>
            <a:ext cx="8399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paper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  2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el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erenc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4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e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  3,200 (~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,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el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er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  3,200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~1,5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er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  1,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3429000"/>
            <a:ext cx="15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~1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569560" y="3276720"/>
            <a:ext cx="3131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~99%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uploaded to Worm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2209680" y="3200400"/>
            <a:ext cx="3505320" cy="1447920"/>
            <a:chOff x="2209680" y="3200400"/>
            <a:chExt cx="3505320" cy="1447920"/>
          </a:xfrm>
        </p:grpSpPr>
        <p:sp>
          <p:nvSpPr>
            <p:cNvPr id="254" name=""/>
            <p:cNvSpPr/>
            <p:nvPr/>
          </p:nvSpPr>
          <p:spPr>
            <a:xfrm>
              <a:off x="2209680" y="3200400"/>
              <a:ext cx="3505320" cy="833400"/>
            </a:xfrm>
            <a:prstGeom prst="rightArrow">
              <a:avLst>
                <a:gd name="adj1" fmla="val 50000"/>
                <a:gd name="adj2" fmla="val 10515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L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29000" y="3809880"/>
              <a:ext cx="685800" cy="838440"/>
            </a:xfrm>
            <a:custGeom>
              <a:avLst/>
              <a:gdLst/>
              <a:ahLst/>
              <a:rect l="l" t="t" r="r" b="b"/>
              <a:pathLst>
                <a:path w="432" h="528">
                  <a:moveTo>
                    <a:pt x="0" y="0"/>
                  </a:moveTo>
                  <a:cubicBezTo>
                    <a:pt x="108" y="4"/>
                    <a:pt x="216" y="8"/>
                    <a:pt x="288" y="96"/>
                  </a:cubicBezTo>
                  <a:cubicBezTo>
                    <a:pt x="360" y="184"/>
                    <a:pt x="408" y="456"/>
                    <a:pt x="432" y="528"/>
                  </a:cubicBezTo>
                </a:path>
              </a:pathLst>
            </a:custGeom>
            <a:noFill/>
            <a:ln w="7308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2430720" y="4572000"/>
            <a:ext cx="593676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~3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d manual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~ 80 synonyms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  typo’s             e.g. rol-2(e678) 160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i-2(e768)   17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l-2(e768)     2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ts of work to do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re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phora resolution (5%-8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onym re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304812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xtpress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t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ng open source ontologies (MeSH, UM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lot study of other MOD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44197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age and release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52578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Fact Ex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49360" y="838080"/>
            <a:ext cx="654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s full text important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6160" y="2021040"/>
            <a:ext cx="892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Stud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% protein-protein interactions not mentioned in 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aschke and Valencia (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out of 19 unique interactions were present in the 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iedman et al (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6680" y="5334120"/>
            <a:ext cx="563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ll text contains redundanci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00200" y="53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9880" y="380880"/>
            <a:ext cx="50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Specif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05200" y="1055520"/>
            <a:ext cx="7918200" cy="1257480"/>
            <a:chOff x="205200" y="1055520"/>
            <a:chExt cx="7918200" cy="1257480"/>
          </a:xfrm>
        </p:grpSpPr>
        <p:sp>
          <p:nvSpPr>
            <p:cNvPr id="50" name=""/>
            <p:cNvSpPr/>
            <p:nvPr/>
          </p:nvSpPr>
          <p:spPr>
            <a:xfrm>
              <a:off x="3429000" y="17524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886200" y="17524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086600" y="17524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43800" y="17524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33920" y="21337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267080" y="21337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205200" y="1055520"/>
              <a:ext cx="7918200" cy="1257480"/>
              <a:chOff x="205200" y="1055520"/>
              <a:chExt cx="7918200" cy="1257480"/>
            </a:xfrm>
          </p:grpSpPr>
          <p:sp>
            <p:nvSpPr>
              <p:cNvPr id="57" name=""/>
              <p:cNvSpPr/>
              <p:nvPr/>
            </p:nvSpPr>
            <p:spPr>
              <a:xfrm>
                <a:off x="205200" y="1487520"/>
                <a:ext cx="7918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rticle classification             keyword searches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emi-semantic queries              batch retrieval of fac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14920" y="1055520"/>
                <a:ext cx="1623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Queries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228600" y="3062160"/>
            <a:ext cx="8763120" cy="1071000"/>
            <a:chOff x="228600" y="3062160"/>
            <a:chExt cx="8763120" cy="1071000"/>
          </a:xfrm>
        </p:grpSpPr>
        <p:sp>
          <p:nvSpPr>
            <p:cNvPr id="60" name=""/>
            <p:cNvSpPr/>
            <p:nvPr/>
          </p:nvSpPr>
          <p:spPr>
            <a:xfrm>
              <a:off x="231840" y="3062160"/>
              <a:ext cx="144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tur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" y="3673440"/>
              <a:ext cx="876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itation           abstract            full text           paper sec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1523880" y="39625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39625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39625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39625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39625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72200" y="39625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28600" y="4815000"/>
            <a:ext cx="8763120" cy="1131120"/>
            <a:chOff x="228600" y="4815000"/>
            <a:chExt cx="8763120" cy="1131120"/>
          </a:xfrm>
        </p:grpSpPr>
        <p:grpSp>
          <p:nvGrpSpPr>
            <p:cNvPr id="69" name=""/>
            <p:cNvGrpSpPr/>
            <p:nvPr/>
          </p:nvGrpSpPr>
          <p:grpSpPr>
            <a:xfrm>
              <a:off x="228600" y="4815000"/>
              <a:ext cx="8763120" cy="1131120"/>
              <a:chOff x="228600" y="4815000"/>
              <a:chExt cx="8763120" cy="1131120"/>
            </a:xfrm>
          </p:grpSpPr>
          <p:sp>
            <p:nvSpPr>
              <p:cNvPr id="70" name=""/>
              <p:cNvSpPr/>
              <p:nvPr/>
            </p:nvSpPr>
            <p:spPr>
              <a:xfrm>
                <a:off x="231840" y="4815000"/>
                <a:ext cx="247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Target Users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28600" y="5486400"/>
                <a:ext cx="876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researchers             curators               bioinformaticians/NL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2133720" y="57913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666880" y="57913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57913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29200" y="57913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3750" t="14145" r="2250" b="2829"/>
          <a:stretch/>
        </p:blipFill>
        <p:spPr>
          <a:xfrm>
            <a:off x="0" y="187200"/>
            <a:ext cx="9167760" cy="6442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11316" r="2250" b="2829"/>
          <a:stretch/>
        </p:blipFill>
        <p:spPr>
          <a:xfrm>
            <a:off x="380880" y="533520"/>
            <a:ext cx="8355240" cy="5835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11316" r="6000" b="2829"/>
          <a:stretch/>
        </p:blipFill>
        <p:spPr>
          <a:xfrm>
            <a:off x="76320" y="152280"/>
            <a:ext cx="9056520" cy="6578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11316" r="9750" b="2829"/>
          <a:stretch/>
        </p:blipFill>
        <p:spPr>
          <a:xfrm>
            <a:off x="76320" y="76320"/>
            <a:ext cx="9013680" cy="6819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53776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Igor Antoshechkin</cp:lastModifiedBy>
  <dcterms:modified xsi:type="dcterms:W3CDTF">2003-09-15T23:26:25Z</dcterms:modified>
  <cp:revision>23</cp:revision>
  <dc:subject/>
  <dc:title>Slide 1</dc:title>
</cp:coreProperties>
</file>